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406-C355-4594-B68E-0D5330E0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F22-0744-4810-A19A-EBDB54F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332-9DCF-4624-BB41-94A441DE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7C9-7B51-469B-91F3-1147BFD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3BB-11D2-479A-9325-C8DD9672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8F4F-42B3-4638-8505-77D9656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221-3612-43AD-9B88-D7C15DD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FFF-2BDD-4672-A12B-B6F5C4E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EDE8-1E5A-45BE-B08F-63EDC2C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F253-C5D1-4E9C-B9D1-FD364A82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D9A-26AD-41A4-ABC1-A1F80BC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455-58CB-4D3D-A462-88B8E28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7F6-0698-4B62-AA17-B17B86D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38E-ED79-4FC0-8FE7-E5807E3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A860-FA2B-42F1-B0BC-E8621AE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7124-B3B6-4743-80B1-A2F70FB8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A96E-F36A-45FC-A1B3-367D67B3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616-FDD8-4342-A650-AEA2789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6F2-59F7-4F1B-9FBC-BAB09E30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0F9-8F18-4456-8FE3-10B0208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3C6-2F2F-4D67-A21A-D485139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6BB-D7A0-457F-BDB9-A029FF2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3A0-5906-428F-B5DA-35EA6C3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18B-4B64-462A-8CE9-CBEE177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F6F-7877-40E1-8B16-6B81F3E600B3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603-813D-4C32-B0C6-FDE235176CD0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Main individuals from 1918-1924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3352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ukhari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Leon Trotsky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761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Leon trotsky was born in Yanovka, Russia, on 7th November, 1879.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9528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Trotsky arrived back in Russia from America, in may 1917 and Alexander Kerensky, then realized that Trotsky was a major threat to his government and had him arrested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7432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After the october revolution which Boleviks took control of Russia, Vladimir Lenin appointed Trotsky as the people's commissar for foreign affair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The Red Army had to be established quickly as it was needed to fight the White Army during the Civil War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03920"/>
            <a:ext cx="8001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 An outstanding military commander, Trotsky led his five million man army to victory and in doing so ensured the survival of the Bolshevik government.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7621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otsky's main hope of gaining power was for Lenin's last testament to be published. But Lenin died  before he could take acti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290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e on, boys!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Stalin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-Joseph Stalin, was born in Gori, Georgia on 21st December, 1879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In November, 1917, Lenin rewarded Stalin for his support of the October Revolution by appointing him Commissar of Nationalitie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Stalin supported Lenin's policy. His view was that as long as there was only a one party state, the government could allow the introduction of small-scale private enterpris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5720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At the Party Conference in April, 1922, Lenin suggested that a new post of General Secretary should be created. Lenin's choice for the post was Stalin, who in the past had always loyally supported his polici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724640" cy="4675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lin and his wif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58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ikolai Ivanovitch Bukharin was born in Moscow on September 27, 1888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599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0666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s parents were very cultured and devoted lots of time to the boy’s education, and as a result Bukharin became the most intellectual and broadly educated of the Bolshevik political leader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3392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e completed his education and familiarized himself with western languages and theoretical literature. By 1917 he was able to speak and read German, French, and English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362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 the early 1920s, Bukharin became the leader of NEP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lthough Bukharin and Lenin were often in disagreement over how Marx’s socialist system was to be put into practice, among many other things, the two began a strong relationship and had respect for each other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3:29Z</dcterms:created>
  <dc:creator>apple ,</dc:creator>
  <dc:description/>
  <dc:language>en-US</dc:language>
  <cp:lastModifiedBy>apple ,</cp:lastModifiedBy>
  <dcterms:modified xsi:type="dcterms:W3CDTF">2007-11-13T15:25:34Z</dcterms:modified>
  <cp:revision>3</cp:revision>
  <dc:subject/>
  <dc:title>Main individuals from 1918-1924</dc:title>
</cp:coreProperties>
</file>